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D1E-7B62-4987-8322-B54B1B8B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F01-3BF0-41B2-88FD-3070853D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227-85DE-4229-877B-5ECB7A53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E6D-A2C8-4892-9F0A-9D000530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96F-F2DA-4540-B940-793246C7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7A5-753E-4C81-BF68-50E79CB9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299-17D5-4E51-81A1-59D40E12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9F5-26BB-4C6D-855B-FA52878B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9D5-B189-422C-BC24-D2E42BDC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E28-4001-4634-8753-82050AC6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81D6-1B9A-40E0-8301-0463EAF4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9F8-4100-4CB2-BD5E-21C62E7F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AE32-E013-49BB-A677-3DE5F928D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0840" y="0"/>
            <a:ext cx="9294840" cy="207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447920" y="2743200"/>
            <a:ext cx="6059520" cy="216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286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2057400"/>
            <a:ext cx="3352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___ at 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___ speed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___ slow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___  accel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___ decel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 constant speed forward (aw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constant speed backward (tow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4920" y="5105520"/>
            <a:ext cx="2057400" cy="1447560"/>
            <a:chOff x="304920" y="5105520"/>
            <a:chExt cx="2057400" cy="1447560"/>
          </a:xfrm>
        </p:grpSpPr>
        <p:sp>
          <p:nvSpPr>
            <p:cNvPr id="47" name=""/>
            <p:cNvSpPr/>
            <p:nvPr/>
          </p:nvSpPr>
          <p:spPr>
            <a:xfrm>
              <a:off x="685800" y="518148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6172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586728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120" y="51055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50840" y="0"/>
            <a:ext cx="9294840" cy="2079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1447920" y="2743200"/>
            <a:ext cx="6059520" cy="2168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286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2057400"/>
            <a:ext cx="3352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___ at 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___ speed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___ slow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___  accel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___ decel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 constant speed forward (aw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constant speed backward (tow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5840" y="304920"/>
            <a:ext cx="244440" cy="18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2590920"/>
            <a:ext cx="244440" cy="18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666880"/>
            <a:ext cx="244440" cy="18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304920"/>
            <a:ext cx="244440" cy="18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228600"/>
            <a:ext cx="244440" cy="18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0"/>
            <a:ext cx="244440" cy="18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876920"/>
            <a:ext cx="244440" cy="18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4920" y="5105520"/>
            <a:ext cx="2057400" cy="1447560"/>
            <a:chOff x="304920" y="5105520"/>
            <a:chExt cx="2057400" cy="1447560"/>
          </a:xfrm>
        </p:grpSpPr>
        <p:sp>
          <p:nvSpPr>
            <p:cNvPr id="64" name=""/>
            <p:cNvSpPr/>
            <p:nvPr/>
          </p:nvSpPr>
          <p:spPr>
            <a:xfrm>
              <a:off x="685800" y="518148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800" y="6172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586728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2120" y="51055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8:19:52Z</dcterms:created>
  <dc:creator>socsd</dc:creator>
  <dc:description/>
  <dc:language>en-US</dc:language>
  <cp:lastModifiedBy>SOCSD</cp:lastModifiedBy>
  <dcterms:modified xsi:type="dcterms:W3CDTF">2010-09-17T11:49:44Z</dcterms:modified>
  <cp:revision>3</cp:revision>
  <dc:subject/>
  <dc:title>PowerPoint Presentation</dc:title>
</cp:coreProperties>
</file>